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B08D-C9F7-403B-890A-8942CBE9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BD9-D7A3-468A-AA00-0E2A46FE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B90-A106-4F12-9B03-8C2B1D42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666-6463-4BDC-A031-42E85591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6B8-83F0-4C3F-B17A-64014109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F86-CF2A-4D6A-91CF-0454FBCD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B28E-7E90-45EF-B402-32F57320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C50-B9CE-470A-AE5A-08403776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7D3B-7565-470A-BA51-BA3B13BD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7BF-FB4B-4DB7-A1DA-25E46865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56A-FB66-4FF5-A6F0-DC50FF14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971-7AC6-44A3-9163-E4DA8CFF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0A70-34B3-4F79-AD2F-A6F836659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dsec.ru/about/clients/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690560"/>
            <a:ext cx="9144000" cy="516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6160" y="907920"/>
            <a:ext cx="8637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Дистанционное обучение в области криптографической защиты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Мельников Максим Русла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Начальник отдела дистанционно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46160"/>
            <a:ext cx="1714680" cy="761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50920" y="5229360"/>
            <a:ext cx="124776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32000" y="254160"/>
            <a:ext cx="70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плексный подход при создании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557360"/>
            <a:ext cx="20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ни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71640" y="2276640"/>
            <a:ext cx="2376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иск экспер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трене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3068640"/>
            <a:ext cx="3529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оздание программы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4508640"/>
            <a:ext cx="3529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дготовка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вт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19640" y="5661000"/>
            <a:ext cx="3600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образование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текст, видео, флэш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терактивные зад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6021360"/>
            <a:ext cx="4176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оздание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3789360"/>
            <a:ext cx="3529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Психологи, методис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Корректоры, дизайн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640" y="1557360"/>
            <a:ext cx="21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411280" y="2328840"/>
            <a:ext cx="21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932360" y="3141720"/>
            <a:ext cx="21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32360" y="4581360"/>
            <a:ext cx="216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932360" y="5950080"/>
            <a:ext cx="21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050920" y="5445000"/>
            <a:ext cx="216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292360" y="41497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00720" y="4005360"/>
            <a:ext cx="19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Необходимые звен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58920" y="44280"/>
            <a:ext cx="70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плексный   МЕТОДОЛОГИЧЕСКИ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ход при создании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27280" y="1268280"/>
            <a:ext cx="4248360" cy="7192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одель (схема) процесса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9640" y="2133720"/>
            <a:ext cx="25192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Блок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3286080"/>
            <a:ext cx="2520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Блок само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4510080"/>
            <a:ext cx="2519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Блок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662440"/>
            <a:ext cx="251928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крепление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371808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083280" y="3718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343044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343044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3933720"/>
            <a:ext cx="11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мотив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3933720"/>
            <a:ext cx="11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мотив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2133720"/>
            <a:ext cx="25192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ополните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133720"/>
            <a:ext cx="25192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д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661000"/>
            <a:ext cx="2519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627280" y="981000"/>
            <a:ext cx="4248360" cy="7192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одель (схема) процесса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2781360"/>
            <a:ext cx="2519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писание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4653000"/>
            <a:ext cx="2519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просы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амопрове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844640"/>
            <a:ext cx="2519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е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716280"/>
            <a:ext cx="2519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акт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69080" y="5589720"/>
            <a:ext cx="25192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тогов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59280" y="5589720"/>
            <a:ext cx="280800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писание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актическое за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5589720"/>
            <a:ext cx="251964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е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50760"/>
            <a:ext cx="70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плексный   МЕТОДОЛОГИЧЕСКИ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ход при создании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2708280"/>
            <a:ext cx="3097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истанционное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58920" y="182520"/>
            <a:ext cx="70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ши цели и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2205000"/>
            <a:ext cx="86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делать дистанционное обучение доступным, понятным, качественным, в том числе и для специалис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От простого к сложному» (Ян Кам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4581360"/>
            <a:ext cx="431964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оче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истанционное + оч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690560"/>
            <a:ext cx="9144000" cy="5167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146160"/>
            <a:ext cx="1714680" cy="761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68360" y="1341360"/>
            <a:ext cx="6616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Мельников Максим Русла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Начальник отдела дистанционно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7 (495) 231-30-49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.4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elnikov@infosystem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26028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50920" y="5229360"/>
            <a:ext cx="124776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дел дистанцион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НОУ «Академия Информационных Систем» отдел создан в октябре 2007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133720"/>
            <a:ext cx="4248360" cy="718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азработка курсов ДО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бласти ИБ и 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133720"/>
            <a:ext cx="4248000" cy="718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оведение ВЭБИНАРОВ в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997360"/>
            <a:ext cx="4248000" cy="7189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дажа курсов ДО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правлению бизнес-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5084640"/>
            <a:ext cx="2881080" cy="714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869000"/>
            <a:ext cx="2016360" cy="1046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771640" y="3357720"/>
            <a:ext cx="1297080" cy="119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179280" y="3357720"/>
          <a:ext cx="2303640" cy="1241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3357720"/>
                    <a:ext cx="230364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572000" y="3860640"/>
            <a:ext cx="4248000" cy="719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азработка тренаж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2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Дистанционное обу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это способ организации процесса обучения, позволяющих осуществлять обучение на расстоянии без непосредственного контакта между преподавателем и учащим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492280"/>
            <a:ext cx="8280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нформационная безопасн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     Защита от ущерба при работе с информацией (сборе, обработке, хранен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    Состояние защищенност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за счет обеспечения конфиденциальности, целостности, доступности информационных активов и ресурсов организации, а также аутентичности данных и неотказуемости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SO 17799: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4653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Кр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иптограф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это совокупность методов преобразования данных направленных на защиту этих данных, сделав их бесполезными для незаконных пользов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57340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Методолог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система определенных приемов и способов для достижения эффективного результата при обучении. Например, использование нескольких методов: индукции, дедукции, анализа и синте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874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ему необходимо обуч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457280"/>
            <a:ext cx="86868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Причина 1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Е ОБЯЗАТЕЛЬНАЯ</a:t>
            </a: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. Требование Станда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1440" y="2536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ISO/IEC27001:20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«Организации необходимо обеспечить компетентность персонала, наделенного обязанностями…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9120" y="376092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ISO/IEC 17799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- </a:t>
            </a:r>
            <a:r>
              <a:rPr b="0" i="1" lang="en-US" sz="1800" spc="-1" strike="noStrike">
                <a:solidFill>
                  <a:srgbClr val="003300"/>
                </a:solidFill>
                <a:latin typeface="Arial"/>
              </a:rPr>
              <a:t>«…Свести ущерб от инцидентов в системе безопасности и ее сбоев к минимуму, а также отслеживать такие события и извлекать из них соответствующие уроки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9280" y="2421000"/>
            <a:ext cx="8686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Федеральный закон № 152-ФЗ «О персональных данных» 27 июля 200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3400560"/>
            <a:ext cx="8686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Федеральным законом №128 «О лицензировании отдельных видов деятельности» 8 августа 2001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3200" y="4551480"/>
            <a:ext cx="8686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постановления Правительства РФ № 504 «О лицензировании деятельности по технической защите конфиденциальной информации» 16 августа 2006 года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64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ему необходимо обуч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197000"/>
            <a:ext cx="8686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Причина 2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БЯЗАТЕЛЬНАЯ</a:t>
            </a: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. Требование Станда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1197000"/>
            <a:ext cx="8686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Причина 3. Прак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270828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один из способов повышения эффективности деятельности компании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непрерывность бизнеса -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BS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учае инцидента ИБ, так как сотрудники обучены и адекватно реагирую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есть знают, что надо дел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64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ему необходимо обуч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864252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ераторы информационных систем персональных данных для проведения мероприятий по обеспечению безопасности персональных данных, обязаны получить лицензию по технической защите конфиденциальной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язательным условием получения лицензии, является наличие в штате организации специалистов, прошедших обучение и получивших доку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сударственного образца о повышении квалифик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постановление Правительства РФ от 16 августа 2006 года № 504 «О лицензировании деятельности по технической защите конфиденциальной информации»</a:t>
            </a:r>
            <a:r>
              <a:rPr b="0" i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8064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ему необходимо обуч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я должна быть защищ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том числе и средствами крипт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8064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ему необходимо обуч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аботка к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осведомленности  сотрудников в области информационной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шелонированный подход к защите конфиденциальн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иптографическая защита информации (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iPNet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иптоПр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ая безопасность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ы противодействия террористическим угро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6:56:02Z</dcterms:created>
  <dc:creator>user</dc:creator>
  <dc:description/>
  <dc:language>en-US</dc:language>
  <cp:lastModifiedBy>KAMAZIK</cp:lastModifiedBy>
  <dcterms:modified xsi:type="dcterms:W3CDTF">2009-04-02T22:27:52Z</dcterms:modified>
  <cp:revision>41</cp:revision>
  <dc:subject/>
  <dc:title>Слайд 1</dc:title>
</cp:coreProperties>
</file>